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756-2187-4ECE-8F39-C8620D97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C3B-EC3D-419F-87B1-68051B37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EB7-1055-4694-9A85-A64A4719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2B3-8BD6-462C-804A-B8297027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8EF-89B4-428A-943C-C88DAE1D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746-C3B6-4049-92A8-E9FBCF19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621-86AC-464C-84CD-5098BFC1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AB2-5495-41CB-A8E9-0193ACF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B66-A33C-4953-808F-5036FB0B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12C-569A-44F6-B102-49DD6A2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B37-33B2-4B7D-B590-B7EE6C5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D43-1217-48BA-A13B-F992390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4297-E545-48F0-862D-57B7ABE6B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81679.cgm"/>
          <p:cNvPicPr/>
          <p:nvPr/>
        </p:nvPicPr>
        <p:blipFill>
          <a:blip r:embed="rId1"/>
          <a:stretch/>
        </p:blipFill>
        <p:spPr>
          <a:xfrm>
            <a:off x="477720" y="0"/>
            <a:ext cx="818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8:10:12Z</dcterms:created>
  <dc:creator>RJKNAPIK</dc:creator>
  <dc:description/>
  <dc:language>en-US</dc:language>
  <cp:lastModifiedBy>gcmyers</cp:lastModifiedBy>
  <dcterms:modified xsi:type="dcterms:W3CDTF">2010-03-05T17:03:58Z</dcterms:modified>
  <cp:revision>1</cp:revision>
  <dc:subject/>
  <dc:title>Slide 1</dc:title>
</cp:coreProperties>
</file>